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54C4-D830-4F63-A85F-CB0579A6EC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2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2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ic orc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ic orc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ne ________________________________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ne ___________________________________________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ork out Total Magnification use the following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ork out Total Magnification use the following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eyepiec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 of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ell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ell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mic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 with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re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 with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re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EEF-9D2C-4079-838F-99A2D319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B6FF-B92B-4B48-90F0-9B5A90AC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FF8D-49D2-4010-886C-08050B84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994-2B65-4B44-8198-1CF3BA2C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073-193D-4CBB-8E8B-58EB3910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BB5C-BA6A-4DCA-BFF2-A6D70F7F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C9BF-1BA6-4B92-9D3C-8B566F7E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B37-EE4C-43E2-B65F-4CC0ADC9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2FD-E86A-4D0C-82AD-5A1BE17A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868-A058-4635-83BA-212C0CFC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DE25-7902-46F0-A5AD-C1CC8C78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E003-EF8C-4459-A2C3-5622FEB2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F1FA-D65A-485A-AEAC-2962138401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Introduction to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pic 2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vestigating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1125360"/>
            <a:ext cx="9144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stain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of on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ells and also 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676520" y="5257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193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981080" y="1295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468360" y="1197000"/>
            <a:ext cx="7920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d to sta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___________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990720" y="1143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ethyl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981080" y="3962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981080" y="57913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uman cheek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50920" y="1197000"/>
            <a:ext cx="8893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 is us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in the _______________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esent in the nucleus of cells which 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bout to divi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828800" y="1143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etic orc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819520" y="2819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hrom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0"/>
            <a:ext cx="91440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Cells can be seen more clearly usin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icroscopes _________________________ the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icroscopes may have two o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three_______________________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and one ___________________________________________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914400" y="15238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248520" y="1219320"/>
            <a:ext cx="2590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94360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icrosco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514600" y="4343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971800" y="22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438280" y="5562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yepiec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-123840" y="-81000"/>
            <a:ext cx="93916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culating Magn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o work out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otal Magnification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use the following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809880" y="4114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ication of eyepiec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400800" y="4114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gnification of objectiv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11280" y="476280"/>
            <a:ext cx="7993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nce microscopes magnify cells we have a new unit of measur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se new units are cal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_________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mm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000 µ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1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 µ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971800" y="3276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ic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 u="sng">
                <a:solidFill>
                  <a:srgbClr val="000000"/>
                </a:solidFill>
                <a:uFillTx/>
                <a:latin typeface="Arial"/>
              </a:rPr>
              <a:t>Measuring Cell Siz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 use microscopes to estimate the size of cells we are looking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we know the diameter of the field of our field of view we can then estimate the size of the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9640" y="549360"/>
            <a:ext cx="79930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the field of view = 1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n onion cells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______________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r ______________(µm) in leng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5"/>
          <p:cNvGrpSpPr/>
          <p:nvPr/>
        </p:nvGrpSpPr>
        <p:grpSpPr>
          <a:xfrm>
            <a:off x="5219640" y="836640"/>
            <a:ext cx="3486240" cy="3240000"/>
            <a:chOff x="5219640" y="836640"/>
            <a:chExt cx="3486240" cy="3240000"/>
          </a:xfrm>
        </p:grpSpPr>
        <p:sp>
          <p:nvSpPr>
            <p:cNvPr id="70" name="AutoShape 6"/>
            <p:cNvSpPr/>
            <p:nvPr/>
          </p:nvSpPr>
          <p:spPr>
            <a:xfrm>
              <a:off x="5219640" y="1990080"/>
              <a:ext cx="1743120" cy="9255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7"/>
            <p:cNvSpPr/>
            <p:nvPr/>
          </p:nvSpPr>
          <p:spPr>
            <a:xfrm>
              <a:off x="6962760" y="1990080"/>
              <a:ext cx="1743120" cy="9255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8"/>
            <p:cNvSpPr/>
            <p:nvPr/>
          </p:nvSpPr>
          <p:spPr>
            <a:xfrm>
              <a:off x="5437440" y="2221200"/>
              <a:ext cx="1307160" cy="46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9"/>
            <p:cNvSpPr/>
            <p:nvPr/>
          </p:nvSpPr>
          <p:spPr>
            <a:xfrm>
              <a:off x="7180560" y="2221200"/>
              <a:ext cx="1307160" cy="462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0"/>
            <p:cNvSpPr/>
            <p:nvPr/>
          </p:nvSpPr>
          <p:spPr>
            <a:xfrm>
              <a:off x="5655240" y="2221200"/>
              <a:ext cx="217440" cy="231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1"/>
            <p:cNvSpPr/>
            <p:nvPr/>
          </p:nvSpPr>
          <p:spPr>
            <a:xfrm>
              <a:off x="7398720" y="2452680"/>
              <a:ext cx="217440" cy="231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2"/>
            <p:cNvSpPr/>
            <p:nvPr/>
          </p:nvSpPr>
          <p:spPr>
            <a:xfrm>
              <a:off x="5219640" y="836640"/>
              <a:ext cx="3486240" cy="32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3"/>
            <p:cNvSpPr/>
            <p:nvPr/>
          </p:nvSpPr>
          <p:spPr>
            <a:xfrm>
              <a:off x="5437440" y="3147120"/>
              <a:ext cx="30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4"/>
          <p:cNvSpPr/>
          <p:nvPr/>
        </p:nvSpPr>
        <p:spPr>
          <a:xfrm>
            <a:off x="5580000" y="3141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mm (1000 µ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3276720" y="1773360"/>
            <a:ext cx="20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763640" y="1557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2411280" y="2421000"/>
            <a:ext cx="133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3492360" y="25653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2050920" y="22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ion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3348000" y="249228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1447920" y="41148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0.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1905120" y="51055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00 mic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539640" y="476280"/>
            <a:ext cx="77058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the field of view = 0.5mm or 500µ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n these cheek cells would b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m or ______________ µm in leng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5226120" y="3213000"/>
            <a:ext cx="3233520" cy="3127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21964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9"/>
          <p:cNvSpPr/>
          <p:nvPr/>
        </p:nvSpPr>
        <p:spPr>
          <a:xfrm>
            <a:off x="5508720" y="4508640"/>
            <a:ext cx="215640" cy="257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4"/>
          <p:cNvSpPr/>
          <p:nvPr/>
        </p:nvSpPr>
        <p:spPr>
          <a:xfrm>
            <a:off x="5867280" y="4292640"/>
            <a:ext cx="64800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5"/>
          <p:cNvSpPr/>
          <p:nvPr/>
        </p:nvSpPr>
        <p:spPr>
          <a:xfrm>
            <a:off x="651672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6"/>
          <p:cNvSpPr/>
          <p:nvPr/>
        </p:nvSpPr>
        <p:spPr>
          <a:xfrm>
            <a:off x="716436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7"/>
          <p:cNvSpPr/>
          <p:nvPr/>
        </p:nvSpPr>
        <p:spPr>
          <a:xfrm>
            <a:off x="7812000" y="4292640"/>
            <a:ext cx="6476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8"/>
          <p:cNvSpPr/>
          <p:nvPr/>
        </p:nvSpPr>
        <p:spPr>
          <a:xfrm>
            <a:off x="6156360" y="4581360"/>
            <a:ext cx="21600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9"/>
          <p:cNvSpPr/>
          <p:nvPr/>
        </p:nvSpPr>
        <p:spPr>
          <a:xfrm>
            <a:off x="6804000" y="4508640"/>
            <a:ext cx="216000" cy="257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0"/>
          <p:cNvSpPr/>
          <p:nvPr/>
        </p:nvSpPr>
        <p:spPr>
          <a:xfrm>
            <a:off x="7380360" y="4437000"/>
            <a:ext cx="21600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1"/>
          <p:cNvSpPr/>
          <p:nvPr/>
        </p:nvSpPr>
        <p:spPr>
          <a:xfrm>
            <a:off x="7956720" y="4581360"/>
            <a:ext cx="215640" cy="257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5292720" y="508464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5651640" y="515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5 mm (500 µ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4"/>
          <p:cNvSpPr/>
          <p:nvPr/>
        </p:nvSpPr>
        <p:spPr>
          <a:xfrm flipV="1">
            <a:off x="3564000" y="4653000"/>
            <a:ext cx="165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1979640" y="5373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cheek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685800" y="190512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500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4724280" y="2286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8"/>
          <p:cNvSpPr/>
          <p:nvPr/>
        </p:nvSpPr>
        <p:spPr>
          <a:xfrm>
            <a:off x="495288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620640"/>
          <a:ext cx="9144000" cy="5040360"/>
        </p:xfrm>
        <a:graphic>
          <a:graphicData uri="http://schemas.openxmlformats.org/drawingml/2006/table">
            <a:tbl>
              <a:tblPr/>
              <a:tblGrid>
                <a:gridCol w="3276720"/>
                <a:gridCol w="2817720"/>
                <a:gridCol w="30495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gnific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ield of Vie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icrons (µm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1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X4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.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99"/>
          <p:cNvSpPr/>
          <p:nvPr/>
        </p:nvSpPr>
        <p:spPr>
          <a:xfrm>
            <a:off x="69343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0"/>
          <p:cNvSpPr/>
          <p:nvPr/>
        </p:nvSpPr>
        <p:spPr>
          <a:xfrm>
            <a:off x="70102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1"/>
          <p:cNvSpPr/>
          <p:nvPr/>
        </p:nvSpPr>
        <p:spPr>
          <a:xfrm>
            <a:off x="701028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0" y="0"/>
            <a:ext cx="9144000" cy="64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Staining Cell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Animal and plant cells can b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so that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an be__________________________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82880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819520" y="4191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tructures within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124080" y="53341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een more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2:26:41Z</dcterms:created>
  <dc:creator>Education</dc:creator>
  <dc:description/>
  <dc:language>en-US</dc:language>
  <cp:lastModifiedBy>LEGION2</cp:lastModifiedBy>
  <dcterms:modified xsi:type="dcterms:W3CDTF">2016-01-11T13:25:15Z</dcterms:modified>
  <cp:revision>10</cp:revision>
  <dc:subject/>
  <dc:title>Introduction to Cells</dc:title>
</cp:coreProperties>
</file>